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91A-C883-40C7-ABF9-20475B54B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8E4-E37F-4DFB-A65A-269A2E522A7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47F-CEAB-4A18-82B4-7179604B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FF3-6D13-48D2-B34A-9F45FC0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418-BEA4-4C1A-8D13-C6637A54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538-FB35-4F82-9179-54A5A5AF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1862-9F27-41C0-9F31-87CAE03F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33B3-029E-459F-9E79-CB1A043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AB75-A499-4493-B371-9A583C5D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F16-27FF-4CE8-B2F5-0179C842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4EF9-167C-4B14-B1E0-64497D1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7C6-D617-49DB-9082-490DB474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8354-B688-4387-86F7-11E6A61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3F8-F35F-43C2-8E8F-42E099A4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6E13-1DC4-44B0-8C8A-3D158B8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CDB5-0CD3-4D66-9F01-48D5197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C7FA-B546-4351-9D86-0DB83043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17E4-4939-4AEB-A575-9C8DB149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133C-7BF0-414B-A2D2-0AFE0C5A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8DA-6566-4495-8C60-1BD41BBD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37C-8A8B-423C-A6F9-6B6BEA2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361-541A-4200-8AB1-2A138ABA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E1A-CCDA-4DA0-BA9B-923786A2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A75-9BC7-4268-AE10-E63346B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169-3FD3-4668-A575-F21286E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79F-ACCD-4E25-B2DD-3BE2816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284-160B-4B3F-91EE-D0BAE801D8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AB0E-3C92-491C-A7BB-1644713675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P European Hist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 format, tips and tric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nal sco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BQ (out of 9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 X 4.5  = 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matic I (out of 9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 X 2.75 = 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matic II (out of 9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 X 2.75 = _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um of essay weighted score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= _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osite Sco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___ + _______________ = ______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Weighted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Weighted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  Composite Score       Section I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Section II         (round to nearest whole numbe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201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nal Sco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5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choice score (see slide 7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 on DBQ  (6 X 4.75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8.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 on T1       (5 X 2.75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.7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on T2       (4 X 2.75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1.0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all weighted Part II scores together and round to the nearest whole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tion II Score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3.25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5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nal Sco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tion I + Section II = ____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5 + 53 = 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2057400"/>
          <a:ext cx="8458200" cy="3840120"/>
        </p:xfrm>
        <a:graphic>
          <a:graphicData uri="http://schemas.openxmlformats.org/drawingml/2006/table">
            <a:tbl>
              <a:tblPr/>
              <a:tblGrid>
                <a:gridCol w="2114280"/>
                <a:gridCol w="1238400"/>
                <a:gridCol w="2990880"/>
                <a:gridCol w="21146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posite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P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lege Board definition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verage college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2-1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xtremely 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9-1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-9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5-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ssibly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-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o recommendatio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04920" y="1752480"/>
          <a:ext cx="8458200" cy="3840120"/>
        </p:xfrm>
        <a:graphic>
          <a:graphicData uri="http://schemas.openxmlformats.org/drawingml/2006/table">
            <a:tbl>
              <a:tblPr/>
              <a:tblGrid>
                <a:gridCol w="2114280"/>
                <a:gridCol w="1238400"/>
                <a:gridCol w="2990880"/>
                <a:gridCol w="21146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posite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P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lege Board definition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verage college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2-1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xtremely 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9-1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-9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5-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ssibly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-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o recommendatio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6095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 110 composite score would be a 4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06360" y="304920"/>
            <a:ext cx="851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___49.5______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_____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6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__________ =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__110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Weighted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    Weighted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      Composite Sc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Section I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   Section II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(round to nearest whole numb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ll Cur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ationwide scores on the AP European History exam generally form a bell cur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low is a breakdown of a recent ex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32004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2743200"/>
          <a:ext cx="7696440" cy="3124080"/>
        </p:xfrm>
        <a:graphic>
          <a:graphicData uri="http://schemas.openxmlformats.org/drawingml/2006/table">
            <a:tbl>
              <a:tblPr/>
              <a:tblGrid>
                <a:gridCol w="2895840"/>
                <a:gridCol w="1274760"/>
                <a:gridCol w="1552320"/>
                <a:gridCol w="1973520"/>
              </a:tblGrid>
              <a:tr h="83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umber of student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cent at Grad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Extremely well 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39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.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Well 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0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.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9,45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36.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ossibly 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50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.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ot recommendation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95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3.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334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80 multiple choice questions, each with 5 possible answe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You will have 55 minutes to do the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will no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know the answer to every question. Some will be on information that is not in your book and was never discussed in class. That’s o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f you have a question for which you  do not know the answer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es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are awarded ONE POINT for every correct answ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gain/lose nothing for questions answered incorrec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umber correc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125 = MC score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0 questions correct     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(40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40 X 1.125 = 45  Part I Sco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This is 50 percent of the total test sco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A: Document Based Ques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essay is worth 45% of the Part II score,    27 ½ % of the total exam sco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scored on a rubric scale of 1-9. You have a copy of a generic rubric in your study gu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will be about 12 documents. You must use at one more than half and analyze at least 3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side information is required for a score higher than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117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A: Document Based Ques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will have a 15 minute mandatory read time where you will read the docs, take notes, make an outline, note analysis and outside info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ter 15 minutes, you will be told to open the booklet and to start writ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should spend approximately 45 writing this ess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reality, you’ll probably spend closer to an ho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B: Thematic Ess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will have two groups of three essay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must select one essay from each gro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ch essay is worth 27 ½ % of the Part II score, which is 13.75% of the entire test e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are graded on a 1-9 point sc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B: Thematic Ess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You should spend 5 minutes organizing each essay, and approximately 30 minutes writing each 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4:17:12Z</dcterms:created>
  <dc:creator>workshopguest1</dc:creator>
  <dc:description/>
  <dc:language>en-US</dc:language>
  <cp:lastModifiedBy>Administrator</cp:lastModifiedBy>
  <cp:lastPrinted>2013-04-25T16:24:07Z</cp:lastPrinted>
  <dcterms:modified xsi:type="dcterms:W3CDTF">2013-04-25T16:24:21Z</dcterms:modified>
  <cp:revision>9</cp:revision>
  <dc:subject/>
  <dc:title>AP European History</dc:title>
</cp:coreProperties>
</file>